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AAB-EC0B-48F0-B176-1E27A39C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AEB-2003-4535-9D3E-EA5E6561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382-C3B9-4649-A86C-964B44C9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3D0-6835-4BC1-BC09-6210A4F9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F366-0917-41C1-909F-3EAA0C9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AA7D-C990-433C-8539-6DD1ABA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51FB-EDA7-41F7-A1E0-D7C6232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C71A-4987-4FD0-BC63-802226DE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A3D4-6022-427A-B053-1E2F5785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849-EF83-4ED7-8A98-A5EAAD8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F7FD-177F-4FBD-AE57-803804F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E8D-5D65-49C8-A61D-EEC6AECC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7BCA-ACFB-44C1-94C7-A9D1195D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ABD7-42C4-40D7-98AF-189B9CB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17E-AD7B-4144-BF7C-BBAC5D2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F8E4-425D-43E5-90A2-BB079DF5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B54-1154-4771-8C18-A858EA7B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ADC-2E0B-434F-B06A-51E3BA10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1DC-5D5D-4132-BB52-2264E683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E9F-D6B8-4AE4-B4F9-0BC65B4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876-0A47-49FD-9682-C752483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677-15D3-4568-834F-524A4C2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828-738F-41BF-B841-C45C7D7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BD5-67E8-4767-9679-FC5AB64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A2F702-D943-4CA0-8771-FAF827EE933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6DC0C1-558E-4AEC-874B-A88D805EFC1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Comic Sans MS"/>
              </a:rPr>
              <a:t>REDACCIÓN DE TEXTOS ARGUMENTATIVO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s frecuente el empleo de la primera persona gramatical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yo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nosotros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, dado que se expresa una opinión prop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Predominan los sustantivos abstractos.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Uso de verbos que expresan voluntad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gustar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; verbos de dicción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deci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, y de pensamiento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cree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on frecuencia se emplea la interrogación retóric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mpleo de adjetivos valorativos y oraciones larg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argument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6360" cy="3313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a argumentación es un texto que tiene como fin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rsuadir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al destinatario del punto de vista que se tiene sobre un asunto,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onvencerl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de la veracidad o falsedad de una teoría, aportando en ambos casos razones o argume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¿Cuándo y por qué argumentamos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textos argumentativos son de los más empleados por estudiantes, profesores, científicos, polític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argumentación es la base del cono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sería posible concebir una sociedad democrática sin que las personas pudiéramos defender nuestras opin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nemos que saber tratar y resolver conflicto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¿Qué propiedades textuales tienen los textos argumentativos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Adecuac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s muy importante conocer el contexto comunicativo y el tipo de argumentación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las ideas planteadas y los argumentos deben estar de acuerdo con un orden lógico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s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n el texto argumentativo es donde  se hace más necesario el empleo de conectores y organizadores textual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STRUCTURA DEL TEXTO ARGUMENTAT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2349360"/>
          <a:ext cx="8424720" cy="3418200"/>
        </p:xfrm>
        <a:graphic>
          <a:graphicData uri="http://schemas.openxmlformats.org/drawingml/2006/table">
            <a:tbl>
              <a:tblPr/>
              <a:tblGrid>
                <a:gridCol w="2664000"/>
                <a:gridCol w="2976480"/>
                <a:gridCol w="27842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I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ERPO DE LA ARGUMENTAC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LUS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</a:tr>
              <a:tr h="26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Idea funda-mental que se defiend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Debe formular-se de forma cla-r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ción de argu-mentos para de-fender la idea planteada o refutar ideas contrarias a ell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 del texto, tras el razona-miento lógico de-rivado de la argu-mentación prece-dent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200"/>
            </a:br>
            <a:r>
              <a:rPr b="0" lang="es-ES" sz="2800" spc="-1" strike="noStrike">
                <a:solidFill>
                  <a:srgbClr val="feec94"/>
                </a:solidFill>
                <a:latin typeface="Comic Sans MS"/>
              </a:rPr>
              <a:t>El argumento de autoridad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85988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recurre a testimonios o citas de personas, célebres en muchos casos, o especialistas sobre el tema en cuestión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3933720"/>
          <a:ext cx="7056360" cy="2087640"/>
        </p:xfrm>
        <a:graphic>
          <a:graphicData uri="http://schemas.openxmlformats.org/drawingml/2006/table">
            <a:tbl>
              <a:tblPr/>
              <a:tblGrid>
                <a:gridCol w="705636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egún reconocidos especialistas de nutrición de todo el mundo</a:t>
                      </a:r>
                      <a:r>
                        <a:rPr b="0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la dieta mediterránea, basada en el consumo de frutas, verduras, pescado, y aceite de oliva, es la mejor para llevar una vida sana y equilibr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0" lang="es-ES" sz="3200" spc="-1" strike="noStrike">
                <a:solidFill>
                  <a:srgbClr val="feec94"/>
                </a:solidFill>
                <a:latin typeface="Comic Sans MS"/>
              </a:rPr>
              <a:t>El argumento de la mayorí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rgumento muy empleado en el que se recurre al sentir de la mayoría de la gente o de la socie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Todo el mundo piensa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 que la idea puede funcionar.</a:t>
            </a: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argumento de la experienc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basa en el empleo de los ejemplos, basados en la experiencia, para ilustrar lo que se quiere demostrar o de defender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Yo misma, y algunos de mis familiares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, lo hemos probado y los resultados fueron excelent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ORDEN DE LOS ARGUMENTO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vitar las divagaciones y los juegos de palab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tilizar párrafos para distribuir y organizar cada uno de los argum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lacionar los distintos párrafos con conectores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otar el texto de unidad y sentido global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7:59:25Z</dcterms:created>
  <dc:creator>Guillermo</dc:creator>
  <dc:description/>
  <dc:language>en-US</dc:language>
  <cp:lastModifiedBy>Guillermo</cp:lastModifiedBy>
  <dcterms:modified xsi:type="dcterms:W3CDTF">2014-07-19T12:44:52Z</dcterms:modified>
  <cp:revision>12</cp:revision>
  <dc:subject/>
  <dc:title>El texto argumentativo</dc:title>
</cp:coreProperties>
</file>